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7713-E61A-4AB1-A3BA-9E5FE1119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8A25-E165-4D3F-9687-8A581326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422F-4DA3-4F41-981D-52E9FC17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ACAA-56AF-42C5-B41C-BC0C8E4E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DA21-E5CA-418D-ACB5-8AE606F0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5B1C-C49D-4902-8F17-AE128D78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BC12-DE52-4522-9681-DB4C7F7B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04E2-2BEE-4354-8382-687D5A59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6FFA-4E6D-4DCC-9C39-A3196BD4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0AAC-665D-42C6-9199-B76257BB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1BFB-DE35-408C-89D3-597495A1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EF48-3362-4E12-A136-98D055CF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99EC-095B-4CC3-A59D-ADB50B0E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2F43-C92C-4915-88D3-6F89A379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471F-F795-4306-9490-A15591B9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2F68-E61D-4CFC-91AF-948A8328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AB4D-A5AE-49DB-9F64-0F70592F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8743-E08E-4E8A-9FA2-A3943128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0ABC-2FA8-4043-AC22-3F37A53B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347B-A179-40C3-8024-30E332A7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45D9-6727-474A-AE6A-E356C212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5C6E-9DA5-4FE7-920C-018F5281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6C50-7D2B-4D42-8750-5940649F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3A7B-43E9-41D7-BB5C-606F6B85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cee1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cee1f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cee1f4"/>
                </a:gs>
                <a:gs pos="50000">
                  <a:srgbClr val="26d2e4"/>
                </a:gs>
                <a:gs pos="100000">
                  <a:srgbClr val="cee1f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F1DD-4274-42AA-9535-D0E95C8ED744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cee1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cee1f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cee1f4"/>
                </a:gs>
                <a:gs pos="50000">
                  <a:srgbClr val="26d2e4"/>
                </a:gs>
                <a:gs pos="100000">
                  <a:srgbClr val="cee1f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f9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4DF8-0E84-48CF-8768-64BF5AF00A7D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lgomes@sp.gov.br" TargetMode="External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5120" y="15238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âmara Técnica de Integração de Procedimentos, Ações de Outorga e Ações Reguladoras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437920" y="57909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v/200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4724280"/>
            <a:ext cx="6477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ELHO NACIONAL DE RECURSOS HÍDRIC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 CNRH -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3080" y="1676520"/>
            <a:ext cx="84582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Art. 5º São instrumentos da Política Nacional de Recursos Hídrico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7146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 - os Planos de Recursos Hídricos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146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I - o enquadramento dos corpos de água em classes, segundo os usos preponderantes da água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146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  <a:ea typeface="Times New Roman"/>
              </a:rPr>
              <a:t>III - a outorga dos direitos de uso de recursos hídricos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146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V - a cobrança pelo uso de recursos hídricos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146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V - a compensação a municípios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146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VI - o Sistema de Informações sobre Recursos Hídricos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146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552720" y="-720"/>
            <a:ext cx="259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TPOAR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8524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ase Lega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8" name="topo" descr=""/>
          <p:cNvPicPr/>
          <p:nvPr/>
        </p:nvPicPr>
        <p:blipFill>
          <a:blip r:embed="rId1"/>
          <a:stretch/>
        </p:blipFill>
        <p:spPr>
          <a:xfrm>
            <a:off x="0" y="6426360"/>
            <a:ext cx="914400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23920" y="-720"/>
            <a:ext cx="441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TPOAR/CNRH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tribuiçõ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rt. 2º São competências da Câmara Técnica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 - propor diretrizes para integração de procedimentos entre as instituições responsáveis por ações de outorgas e ações reguladoras ligadas a recursos hídricos;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I - propor ações conjuntas entre as instituições, visando otimizar os procedimentos relacionados com assuntos afins;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II - propor diretrizes e ações conjuntas para soluções de conflitos nos usos múltiplos dos recursos hídricos;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V - propor ações mitigadoras e compensatórias; e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V - as competências constantes do Regimento Interno do CNRH e outras que vierem a ser delegadas pelo seu Plenári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soluções elaborada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solução nº. 12 / 2000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enquadramento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solução nº. 16 / 2001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outorg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solução nº. 29 / 2002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outorga - mineração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solução nº. 37 / 2004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outorga - reservatório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6477120" y="-720"/>
            <a:ext cx="2590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TPOAR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topo" descr=""/>
          <p:cNvPicPr/>
          <p:nvPr/>
        </p:nvPicPr>
        <p:blipFill>
          <a:blip r:embed="rId6"/>
          <a:stretch/>
        </p:blipFill>
        <p:spPr>
          <a:xfrm>
            <a:off x="0" y="6451560"/>
            <a:ext cx="914400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postas de Resolução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tegração dos procedimentos de outorga de uso da água e licenciamento ambienta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evisto na Lei n. 9.433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Estabelece diretrizes para a integração dos procedimentos de obtenção da outorga de direito de uso de recursos hídricos com os de licenciamento ambiental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III Reunião Ordinária do CNRH – 18/07/200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IV Reunião Ordinária do CNRH – 28/11/200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lano de utilização da água na mineraçã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Estabelece diretrizes para elaboração do Plano de Utilização da Água na Mineração - PUA, conforme previsto na Resolução CNRH n</a:t>
            </a:r>
            <a:r>
              <a:rPr b="0" lang="en-US" sz="1800" spc="-1" strike="noStrike" u="sng" baseline="30000">
                <a:solidFill>
                  <a:srgbClr val="000066"/>
                </a:solidFill>
                <a:uFillTx/>
                <a:latin typeface="Arial"/>
                <a:ea typeface="Times New Roman"/>
              </a:rPr>
              <a:t>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29, de 11 de dezembro de 2002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IV Reunião Ordinária do CNRH – 28/11/200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723920" y="-720"/>
            <a:ext cx="441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TPOAR/CNRH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presentaçõ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Integrando Políticas Públicas de Saúde, Meio Ambiente e Recursos Hídricos – CVC – Sérgio Valentim – 200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Plano Nacional de Recursos Hídricos – Diretrizes para outorga - 200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311840" indent="-1872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BA, MG, ES, SP, SE e PI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311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Águas Subterrâneas: Diretrizes de Controle em São Paulo – DAEE – Gerôncio Rocha – 2004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Sistema Integrado de Gestão do Uso Múltiplo das Águas – Sistema Tietê – Paraná – FCTH/USP - Antônio Camargo Júnior – 2004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rocedimentos de outorga, licenciamento e concessões de uso de recursos hídricos destinados à geração de energia elétrica – ANA - 200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31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552720" y="-720"/>
            <a:ext cx="2514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TPOAR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topo" descr=""/>
          <p:cNvPicPr/>
          <p:nvPr/>
        </p:nvPicPr>
        <p:blipFill>
          <a:blip r:embed="rId8"/>
          <a:stretch/>
        </p:blipFill>
        <p:spPr>
          <a:xfrm>
            <a:off x="0" y="6438960"/>
            <a:ext cx="914400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724280" y="-7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TPOAR/CNRH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066680"/>
            <a:ext cx="7543800" cy="60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mas em discussão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L 1616 – Outorga e Fiscalização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T – 9 reuniões (21/02 – 21/11/2005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gração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dos procedimentos para obtenção da outorga de direito de uso de recursos hídricos com os da pesquisa e lavra de águas minerais, termais, potáveis de mesa ou destinadas a fins balneários.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T (CTAS/CTPOAR) – 1ª reunião (24/10/2005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ugestões de Temas para 2006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utorga de águas x saúde;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utorga de lançamento de efluentes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477120" y="-720"/>
            <a:ext cx="2590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TPOAR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0" y="6438960"/>
            <a:ext cx="914400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Muito Obrigada!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90360" y="4952880"/>
            <a:ext cx="746748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66"/>
                </a:solidFill>
                <a:latin typeface="Arial"/>
              </a:rPr>
              <a:t>Leila Carvalho Gom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lgomes@sp.gov.b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66"/>
                </a:solidFill>
                <a:latin typeface="Arial"/>
              </a:rPr>
              <a:t>www.cnrh-srh.gov.b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00:02:47Z</dcterms:created>
  <dc:creator>Francisca Sampaio Leão</dc:creator>
  <dc:description/>
  <dc:language>en-US</dc:language>
  <cp:lastModifiedBy>Cliente</cp:lastModifiedBy>
  <dcterms:modified xsi:type="dcterms:W3CDTF">2005-11-21T23:11:10Z</dcterms:modified>
  <cp:revision>18</cp:revision>
  <dc:subject/>
  <dc:title>CTPOAR - CNRH</dc:title>
</cp:coreProperties>
</file>